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4CC-94E3-421E-8F69-E7B3511C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D3A1-4A2D-4D91-8821-9BB9B4F7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479-4876-4F5D-8DA8-A9C5BF37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0D6-25DF-4821-94E6-DA081A86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DFA5-2D09-4692-A846-85C2BDA6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BECF-7CC3-4611-A89F-A4A5B068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1753-2866-4912-8B9B-82EBAEFC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C61A-4015-427E-8673-65E6D655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DB9E-0010-4913-B9BA-087BF8D5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02A2-6ABC-48FA-BA23-837D8E0E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F4AD-CD6C-4E8D-AD21-1F43C222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337B-AE05-47E1-AFAC-AED4ABCA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8660-3532-4D2B-AFFE-6D08741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E1DA-7E5C-446A-A60A-668DF9F6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EACC-4C80-4723-8F35-DECF10D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EDF6-E33B-462B-896E-792B0550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AE98-4EEC-48BD-A286-A0BCBA26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34D-E461-48C9-A37E-FEE1EC8E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46F-6522-49E4-A655-5B3722B4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1FD-3E94-4150-B758-3D4BBC17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3EE-1533-4217-AC52-679D9309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5D0-9527-401F-BBE5-F8003EF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8D2-D202-4BDD-B593-7F301449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A142-C592-472B-ACFB-7309B71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750A-1854-4EAF-9F46-03697B51A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200"/>
                  <a:ext cx="3599280" cy="2651040"/>
                  <a:chOff x="3735720" y="1267200"/>
                  <a:chExt cx="3599280" cy="265104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200"/>
                    <a:ext cx="35992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3440"/>
                    <a:ext cx="2558880" cy="2740320"/>
                    <a:chOff x="5761080" y="2323440"/>
                    <a:chExt cx="2558880" cy="274032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40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46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9560"/>
                    <a:ext cx="3039840" cy="2528280"/>
                    <a:chOff x="5787720" y="2149560"/>
                    <a:chExt cx="3039840" cy="25282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920"/>
                      <a:ext cx="2235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21680"/>
                      <a:ext cx="120096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5320"/>
                    <a:ext cx="3097440" cy="1992600"/>
                    <a:chOff x="5775120" y="206532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38680" cy="1001880"/>
                    <a:chOff x="5806080" y="187992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368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920"/>
                      <a:ext cx="102312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4960"/>
                    <a:chOff x="5851440" y="1815480"/>
                    <a:chExt cx="265860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360"/>
                    <a:ext cx="2363760" cy="785520"/>
                    <a:chOff x="5788440" y="1305360"/>
                    <a:chExt cx="236376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920"/>
                      <a:ext cx="81648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39840" cy="2530440"/>
                    <a:chOff x="2085120" y="2366640"/>
                    <a:chExt cx="3039840" cy="25304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9640"/>
                      <a:ext cx="223560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096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1160"/>
                    <a:chOff x="2040840" y="2283480"/>
                    <a:chExt cx="3096360" cy="199116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20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880"/>
                    <a:ext cx="3134160" cy="1608120"/>
                    <a:chOff x="2010960" y="218988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912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2320"/>
                      <a:ext cx="11106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8080"/>
                    <a:ext cx="2939040" cy="1000800"/>
                    <a:chOff x="2167560" y="2098080"/>
                    <a:chExt cx="29390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640" y="2224080"/>
                      <a:ext cx="1903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64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2560"/>
                    <a:ext cx="2658600" cy="447120"/>
                    <a:chOff x="2403720" y="203256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720"/>
                      <a:ext cx="92952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8040"/>
                    <a:ext cx="2323800" cy="1082520"/>
                    <a:chOff x="2887200" y="123804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812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1960"/>
                      <a:ext cx="81612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32680"/>
                    <a:ext cx="2169720" cy="1506600"/>
                    <a:chOff x="3161520" y="832680"/>
                    <a:chExt cx="2169720" cy="150660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612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4080"/>
                    <a:ext cx="1460880" cy="1888200"/>
                    <a:chOff x="4027320" y="334080"/>
                    <a:chExt cx="1460880" cy="18882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200" y="1444320"/>
                      <a:ext cx="13575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080" y="544680"/>
                      <a:ext cx="72828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3560" cy="1946880"/>
                    <a:chOff x="4448160" y="24552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200"/>
                      <a:ext cx="13078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8760" cy="1112040"/>
                    <a:chOff x="5661720" y="95256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800"/>
                      <a:ext cx="8175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200680" cy="1451160"/>
                    <a:chOff x="5529600" y="626400"/>
                    <a:chExt cx="22006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10720"/>
                      <a:ext cx="81612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5560" cy="1900800"/>
                    <a:chOff x="5355720" y="270360"/>
                    <a:chExt cx="119556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440" y="486000"/>
                      <a:ext cx="702360" cy="35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8880" y="389160"/>
                    <a:ext cx="1890720" cy="1795320"/>
                    <a:chOff x="5348880" y="389160"/>
                    <a:chExt cx="189072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8800" y="138852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5000"/>
                      <a:ext cx="76536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2680"/>
                    <a:ext cx="424800" cy="1795320"/>
                    <a:chOff x="5459400" y="292680"/>
                    <a:chExt cx="424800" cy="17953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832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4240"/>
                      <a:ext cx="631080" cy="164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30800"/>
                    <a:ext cx="2193480" cy="3001680"/>
                    <a:chOff x="3063240" y="2530800"/>
                    <a:chExt cx="2193480" cy="30016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8920" y="3314520"/>
                      <a:ext cx="212544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1080"/>
                      <a:ext cx="11390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8800"/>
                    <a:chOff x="3791520" y="2650680"/>
                    <a:chExt cx="1482840" cy="299880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960" y="3440880"/>
                      <a:ext cx="1966680" cy="38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52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701800"/>
                    <a:ext cx="876240" cy="2927520"/>
                    <a:chOff x="4507200" y="2701800"/>
                    <a:chExt cx="8762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768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360" y="4807800"/>
                      <a:ext cx="1012320" cy="543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240" cy="2952000"/>
                    <a:chOff x="5677920" y="248364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5800" cy="38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7840"/>
                      <a:ext cx="113940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4520"/>
                    <a:ext cx="1756080" cy="3030120"/>
                    <a:chOff x="5648400" y="2594520"/>
                    <a:chExt cx="1756080" cy="303012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720" y="3396600"/>
                      <a:ext cx="203328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9600"/>
                      <a:ext cx="1089720" cy="576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1880"/>
                    <a:ext cx="1225800" cy="2985120"/>
                    <a:chOff x="5576040" y="2711880"/>
                    <a:chExt cx="1225800" cy="29851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480"/>
                      <a:ext cx="1972800" cy="302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8440" y="4881600"/>
                      <a:ext cx="105912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9680"/>
                    <a:ext cx="696240" cy="2779200"/>
                    <a:chOff x="5521320" y="2839680"/>
                    <a:chExt cx="696240" cy="27792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7200"/>
                      <a:ext cx="18136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5040"/>
                      <a:ext cx="974160" cy="47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560"/>
                    <a:ext cx="664560" cy="2717640"/>
                    <a:chOff x="4961160" y="2887560"/>
                    <a:chExt cx="66456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12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280" y="4931640"/>
                      <a:ext cx="950760" cy="363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2560"/>
                <a:ext cx="6732720" cy="4521240"/>
                <a:chOff x="2174400" y="682560"/>
                <a:chExt cx="673272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2560"/>
                  <a:ext cx="6732720" cy="4521240"/>
                  <a:chOff x="2174400" y="682560"/>
                  <a:chExt cx="673272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7880"/>
                    <a:ext cx="3166560" cy="25239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70520"/>
                    <a:ext cx="248688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2840"/>
                    <a:ext cx="17582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7800"/>
                    <a:ext cx="3133440" cy="29343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2560"/>
                    <a:ext cx="2282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960"/>
                    <a:ext cx="94068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7480"/>
              <a:ext cx="6411960" cy="4708080"/>
              <a:chOff x="2343960" y="717480"/>
              <a:chExt cx="64119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928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4440"/>
                <a:ext cx="2617200" cy="284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688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3480"/>
                <a:ext cx="293076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532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164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1400"/>
                <a:ext cx="598320" cy="1823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2000"/>
                <a:ext cx="543600" cy="10339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86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292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2560"/>
                <a:ext cx="1242000" cy="1974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464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7480"/>
                <a:ext cx="819000" cy="17683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8560"/>
                <a:ext cx="54396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B473-6F41-4F3B-A7D7-C0B95BD4668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tential Cabinet Members and Advis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o are They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omas Jeffer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Secretary of St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225px-T_Jefferson_by_Charles_Willson_Peale_1791_2"/>
          <p:cNvPicPr/>
          <p:nvPr/>
        </p:nvPicPr>
        <p:blipFill>
          <a:blip r:embed="rId1"/>
          <a:stretch/>
        </p:blipFill>
        <p:spPr>
          <a:xfrm>
            <a:off x="3657600" y="2895480"/>
            <a:ext cx="2057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pporter of a strong national government and a strong executive branch (may even want a king rather than a president); revolutionary war officer of Washington’s personal staff and strong supporter of Washington; good organizer and thorough planner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ants to establish a national bank and be sure that the new nation has a strong economic b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lexander Hamilt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Secretary of the Treasu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4" descr="225px-Alexander_Hamilton_portrait_by_John_Trumbull_1806"/>
          <p:cNvPicPr/>
          <p:nvPr/>
        </p:nvPicPr>
        <p:blipFill>
          <a:blip r:embed="rId1"/>
          <a:stretch/>
        </p:blipFill>
        <p:spPr>
          <a:xfrm>
            <a:off x="3276720" y="2666880"/>
            <a:ext cx="28573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pporter of strong central government; southerner from a powerful state; lawyer by occupation; took a leadership role in the approval of the U.S. Constitution; keen observer and careful record keep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ames Madis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25px-James_Madison"/>
          <p:cNvPicPr/>
          <p:nvPr/>
        </p:nvPicPr>
        <p:blipFill>
          <a:blip r:embed="rId1"/>
          <a:stretch/>
        </p:blipFill>
        <p:spPr>
          <a:xfrm>
            <a:off x="3733920" y="2971800"/>
            <a:ext cx="198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der statesman with ambassadorial experience; had a strong role in both the Declaration of Independence and the U.S. Constitution; extremely well liked; inventive and scientifically curious; writes extremely well and has many publica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enjamin Frankl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Picture 4" descr="210px-Benjamin_Franklin_by_Jean-Baptiste_Greuze"/>
          <p:cNvPicPr/>
          <p:nvPr/>
        </p:nvPicPr>
        <p:blipFill>
          <a:blip r:embed="rId1"/>
          <a:stretch/>
        </p:blipFill>
        <p:spPr>
          <a:xfrm>
            <a:off x="3124080" y="2590920"/>
            <a:ext cx="26672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7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utspoken critic of the U.S. Constitution and defender of states’ rights; spirited public speaker whose words caused many to support the Revolution; experienced as a state governor and long-time member of the state legislature; has real vision for the futur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trick Hen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4" name="Picture 4" descr="225px-Patrick_henry"/>
          <p:cNvPicPr/>
          <p:nvPr/>
        </p:nvPicPr>
        <p:blipFill>
          <a:blip r:embed="rId1"/>
          <a:stretch/>
        </p:blipFill>
        <p:spPr>
          <a:xfrm>
            <a:off x="3505320" y="2666880"/>
            <a:ext cx="20574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ob Descrip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ecretary of State deals with foreign polic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ecretary of Treasury deals with the econom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ecretary of War deals with national defense and the military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Attorney General deals with federal law enforcement and represents the United States in Cour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Postmaster General runs the post offic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8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wyer from a powerful northern state; took a key role in the effort to gain separation from England and helped in the writing of the Declaration of Independence; considered uncompromising and unyielding but a man of principle; advocate of a strong central govern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ohn Ad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9" name="Picture 4" descr="225px-Johnadamsvp_flipped"/>
          <p:cNvPicPr/>
          <p:nvPr/>
        </p:nvPicPr>
        <p:blipFill>
          <a:blip r:embed="rId1"/>
          <a:stretch/>
        </p:blipFill>
        <p:spPr>
          <a:xfrm>
            <a:off x="3276720" y="2743200"/>
            <a:ext cx="20574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oston Merchant; Harvard graduate; served in the Revolution, first as a captain and later as a colonel; strong supporter of the U.S. Constitution, first commissioner of the U.S. Treasury, 1785-1789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muel Osgoo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Postmaster Gener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225px-SOsgood"/>
          <p:cNvPicPr/>
          <p:nvPr/>
        </p:nvPicPr>
        <p:blipFill>
          <a:blip r:embed="rId1"/>
          <a:stretch/>
        </p:blipFill>
        <p:spPr>
          <a:xfrm>
            <a:off x="3200400" y="2971800"/>
            <a:ext cx="21430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10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rginia Lawyer, aide de camp to Washington; governor of Virginia; member of Congress; attended Constitutional Convention but refused to sign; urged the ratification of the Constitution on the grounds that the union was necessar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dmund Randolp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Attorney Gener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9" name="Picture 4" descr="EdmundRandolph"/>
          <p:cNvPicPr/>
          <p:nvPr/>
        </p:nvPicPr>
        <p:blipFill>
          <a:blip r:embed="rId1"/>
          <a:stretch/>
        </p:blipFill>
        <p:spPr>
          <a:xfrm>
            <a:off x="3581280" y="2895480"/>
            <a:ext cx="193536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Original Cabine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were three original cabinet positions. These included: Secretary of State, Secretary of Treasury, and Secretary of War (now Defense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y Advis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positions of Attorney General and Postmaster General were key advisors to the President and both eventually became cabinet level position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Justice Department was created in 1870 and the Post Office Department in 1826. The Post Office Department was withdrawn as a cabinet level department in 1971 when the Post Office Department was reorganized as the United States Postal Servic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oston bookseller; forced to flee Boston in disguise in 1774; Revolutionary War general; served as an artillery officer with Washington’s army; developed a reputation for being able to move equipment and supplies quickly; known as sound, solid, and dependabl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nry Knox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Secretary of Wa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Picture 4" descr="225px-HenryKnox"/>
          <p:cNvPicPr/>
          <p:nvPr/>
        </p:nvPicPr>
        <p:blipFill>
          <a:blip r:embed="rId1"/>
          <a:stretch/>
        </p:blipFill>
        <p:spPr>
          <a:xfrm>
            <a:off x="3352680" y="2895480"/>
            <a:ext cx="20383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volutionary War general; served with distinction and bravery; considered a strong, brilliant leader in battle who men would die for; fought guerilla-type warfare from the swamps of his native state for a considerable period of time while British were in control of the are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rancis Mar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4" descr="150px-FrancisMarionSwampFox"/>
          <p:cNvPicPr/>
          <p:nvPr/>
        </p:nvPicPr>
        <p:blipFill>
          <a:blip r:embed="rId1"/>
          <a:stretch/>
        </p:blipFill>
        <p:spPr>
          <a:xfrm>
            <a:off x="3352680" y="28195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andidate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rong-minded, clear speaking champion of individual rights; opposed to a central government that is too strong; extensive experience in dealing with other nations; took a leadership role in Congress during the Revolu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4:01:38Z</dcterms:created>
  <dc:creator>default</dc:creator>
  <dc:description/>
  <dc:language>en-US</dc:language>
  <cp:lastModifiedBy>default</cp:lastModifiedBy>
  <dcterms:modified xsi:type="dcterms:W3CDTF">2009-11-17T13:51:17Z</dcterms:modified>
  <cp:revision>18</cp:revision>
  <dc:subject/>
  <dc:title>Potential Cabinet Members</dc:title>
</cp:coreProperties>
</file>